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311-7B77-4548-A742-ADB1D2C7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633-9E0F-4369-9FA3-DA93E968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5DEB7-9D27-47C5-9C2E-FE2757F3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725A4-78C5-49E6-B9D4-E363458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C4916-28FB-4FE2-BFFC-417E14CB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6637C-3CB1-4143-AD9F-36A9A2E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89BFA-F0F2-4D59-ACE1-F4856DF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75AE3-E8AF-4722-8D52-169B3C4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9B32B-BDAE-47D4-BC6A-D47EC61E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92F78-552A-4006-9E74-6664AE89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38CDE-50DD-4E63-98AD-78FCB69B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D94-A976-433A-AA0D-0A749FBF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562-718F-43BD-B064-25AB93D9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1F76-AE26-485F-91F4-777D6F44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AD9E-D52C-48A4-954A-5A2F2A8F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D00E-9D64-47D7-A1AF-6D960303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CB54-E47F-46E0-AD3A-A598AB68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BBA-2923-4A15-93D5-CBB0240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9A50-91D9-41C0-8F7F-930A753F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943-D06A-4D33-BEA1-47B1B09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0EB-8B78-40C8-911C-5F758EE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3259-4007-4F90-A079-0EB0976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F39-A8B2-4FF5-BCA7-951CB3B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392A-94C0-4434-BED7-9A1028D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F800-B2F9-4DA2-8B4E-3D5874D3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7FA6-1FA5-452D-BBC0-16B21565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EDC9-264E-416D-AD89-22E8BEE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64BA-4C00-4A18-92C0-97E1659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395D-5BE6-4B69-9CC0-4EB6A12A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560D-14DB-4701-BF3D-B67DB0F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689C-D80D-4FF5-B15B-997D18D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2A8-EB63-4BFF-808E-2F05452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4654-8C21-42D2-BE74-6A4F85F6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0BA2-92BB-47FC-9A79-034ADC4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8B39-7765-444F-BB56-993E3BE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A3EA-0A62-4C2F-BCA9-6DF70A1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9138-EB86-4F6B-A97F-336A6B52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1B13-F5DB-412B-BA14-EA7C28B0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94EC-9872-4267-AEF8-1D0EDB5F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7A2F-AF01-4289-BBA5-C3EF7FC7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276C3-F2C5-4DD9-BE98-60F9CF1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FD9D-2CB9-4077-BFFF-427C50FE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272-E358-45E7-A9C7-217756F2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3206-9CF1-4D6A-9BF0-AE997D18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2ABA-9D94-4963-8C6F-88D2221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0EB0-4CDC-4D05-8630-239B501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6194-6BF0-4AC5-A997-B96530C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3A8E-744B-4FCB-B6EE-F8AC92DC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AD07-957B-4F36-8E8A-38FAE43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D7F3-2AD2-4F7A-8F71-B420EF5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E093D-CA8C-4612-B5A9-11B77D8B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4515-26B7-45D2-8648-A78D8F12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BDC2-97C1-440C-84F8-2D32D3CC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792-2799-409A-8DCA-5D511BF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68A4F-A2C8-44E2-A0DD-170281E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E321-F123-471D-A7CA-1A4C4CFB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4EA3-F760-4B74-9211-C71196F0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F322-688A-493C-A02B-BC2C6EB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57AD-038E-416C-AD6A-964049F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023E-A2B5-4DD6-9EC0-6502EB3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05E0-4998-4A97-8D19-4E1005B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451C2-14BE-4888-8122-0246E81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5FD4-1C78-4971-8F0F-01164F38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D5469-9E79-458A-8C8B-D630D60C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41B-9EA5-4CC0-B0C9-36F5E767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344A-C4E4-44D3-8747-FC5B15D5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7BC1F-6947-49E5-B470-70A9853D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75AF5-7EAE-49EB-92EF-00CF953D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5583-30FD-40C4-9F9C-4AA57B51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767AF-761E-4893-AA23-03D77CD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00EE-2339-4774-A3FA-A3871A44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5FC1-22BE-401A-9ADD-76CA532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24B8-CE6F-4BE1-A350-7B85037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847A-EE4D-42A7-95BC-BC62638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592DF-5B70-4DC5-B458-B391F65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06A-8FB0-4149-BB11-920DD34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64E4-5B99-4F34-B224-B6E59042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7996-1562-4A58-AD96-DE2F789E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391A-6AE3-4D4E-A5A4-AEACEE8A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2041-7162-4E50-8D73-965B519B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655DD-A971-4E3D-BC74-75D599F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6469-C164-4567-A9EB-F6F8763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FB38-D538-4FB9-8CC4-B3F23811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1A1C-49F7-45F5-8CAD-2AECFBE6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BD26C-0AC7-488A-A241-44B9A881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8D644-36DC-46F4-B069-6A71B3D9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276-9E1A-494A-8CBF-E7AD005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844E-091E-4D74-837F-30B39F83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2DB1-5633-4EE4-97F6-ED19A10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3EB1-2D3B-4F7F-8488-DCB8B53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47A4-19CA-47C4-9602-FB017256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986B-A2FD-4F30-8E76-5A8C10B3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0C12C-90DE-43D3-BBF1-4E4F8B9C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D2A6-9EFC-409B-81E6-FB4A032F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97713-AC5E-4C9E-B84D-A5693073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0C3DF-A5B9-454B-92F4-E7971937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FA64-1EE3-4C22-863E-4569EDA3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4F4-2587-4A6A-98A9-75936A2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0D8F-6FC3-4BA4-9AB2-4F5756F1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3A35-A83E-4A7B-8162-88C1485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C1DE8-CAEA-4DC9-8371-44330D0D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AFA4A-B7BA-46D7-9AB3-6340870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59CBF-7666-42F7-B943-BADF733F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7787-873C-4CDB-A048-05580FFF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73BA-A6FE-47D3-A615-542472E3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A01C9-E5CA-4A20-8CE2-2FFD2C5E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D6B08-6801-4A7D-963D-AD0D6AEE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00B81-BA87-4C3E-B722-0FA800D2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5A64-A61A-43F3-8580-1546DEEC45B3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87EF-8195-4B77-919E-979858E81D3F}" type="slidenum">
              <a:rPr b="0" lang="es-MX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04AB-433A-42D2-A5C5-31BDD245A821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6A0-72F7-4DF7-A77C-ACF44FE7250D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A934-725C-4DB1-AD58-01E059BB4F21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764D-1439-46A8-9EB4-1A557FC8A1D9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E7F-5321-411B-934D-4FBA6D988950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CC2-3762-4533-8E41-9B2388615661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66BA-2A8C-4A93-81A2-AEE1C18F79E1}" type="slidenum">
              <a:rPr b="0" lang="es-MX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46160" y="835200"/>
            <a:ext cx="88884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98400" y="2133720"/>
            <a:ext cx="7747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5d1d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This use can usually be replaced by, a time clause using 'when' (example: When I am late, my father takes me to school.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If clause + Result claus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If + </a:t>
            </a:r>
            <a:r>
              <a:rPr b="0" lang="en-US" sz="24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 + present + C , </a:t>
            </a:r>
            <a:r>
              <a:rPr b="0" lang="en-US" sz="24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 + present + C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My parents don’t get angry if I fail a test. </a:t>
            </a:r>
            <a:br>
              <a:rPr sz="2400"/>
            </a:br>
            <a:r>
              <a:rPr b="0" lang="es-MX" sz="2400" spc="-1" strike="noStrike">
                <a:solidFill>
                  <a:srgbClr val="895d1d"/>
                </a:solidFill>
                <a:latin typeface="Book Antiqua"/>
              </a:rPr>
              <a:t>You </a:t>
            </a: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can also put the result clause first without using a comma between the clauses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9040" y="333000"/>
            <a:ext cx="77565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onditional 0 </a:t>
            </a:r>
            <a:br>
              <a:rPr sz="5400"/>
            </a:br>
            <a:r>
              <a:rPr b="1" lang="en-US" sz="2800" spc="-1" strike="noStrike">
                <a:solidFill>
                  <a:srgbClr val="895d1d"/>
                </a:solidFill>
                <a:latin typeface="Book Antiqua"/>
              </a:rPr>
              <a:t>Situations that are always true if something happens. </a:t>
            </a:r>
            <a:endParaRPr b="0" lang="en-US" sz="28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Complete these conditionals with personal informatio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1. If I have a problem, 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2. If I need money,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3. If my parents are angry,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4. If I need a friend,</a:t>
            </a: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5. If I have a fight with my boyfriend/girlfriend,</a:t>
            </a:r>
            <a:br>
              <a:rPr sz="2700"/>
            </a:br>
            <a:br>
              <a:rPr sz="2700"/>
            </a:br>
            <a:r>
              <a:rPr b="0" lang="es-MX" sz="27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2700"/>
            </a:br>
            <a:br>
              <a:rPr sz="2700"/>
            </a:br>
            <a:r>
              <a:rPr b="0" i="1" lang="es-MX" sz="2700" spc="-1" strike="noStrike">
                <a:solidFill>
                  <a:srgbClr val="895d1d"/>
                </a:solidFill>
                <a:latin typeface="Book Antiqua"/>
              </a:rPr>
              <a:t>What do you do if you have a problem?</a:t>
            </a:r>
            <a:br>
              <a:rPr sz="2700"/>
            </a:br>
            <a:endParaRPr b="0" lang="en-US" sz="27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5d1d"/>
                </a:solidFill>
                <a:latin typeface="Book Antiqua"/>
              </a:rPr>
              <a:t>Conditional 1</a:t>
            </a:r>
            <a:r>
              <a:rPr b="0" lang="en-US" sz="3000" spc="-1" strike="noStrike">
                <a:solidFill>
                  <a:srgbClr val="895d1d"/>
                </a:solidFill>
                <a:latin typeface="Book Antiqua"/>
              </a:rPr>
              <a:t>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95d1d"/>
                </a:solidFill>
                <a:latin typeface="Book Antiqua"/>
              </a:rPr>
              <a:t>Often called the "real" conditional because it is used for real - or possible - situations. These situations take place if a certain condition is met.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If clause + Result clause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If + </a:t>
            </a:r>
            <a:r>
              <a:rPr b="0" lang="en-US" sz="30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 + present + C , </a:t>
            </a:r>
            <a:r>
              <a:rPr b="0" lang="en-US" sz="30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 + future + C</a:t>
            </a:r>
            <a:br>
              <a:rPr sz="3000"/>
            </a:br>
            <a:br>
              <a:rPr sz="3000"/>
            </a:br>
            <a:r>
              <a:rPr b="0" i="1" lang="en-US" sz="2600" spc="-1" strike="noStrike">
                <a:solidFill>
                  <a:srgbClr val="895d1d"/>
                </a:solidFill>
                <a:latin typeface="Book Antiqua"/>
              </a:rPr>
              <a:t>If it rains, we will stay at home.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895d1d"/>
                </a:solidFill>
                <a:latin typeface="Book Antiqua"/>
              </a:rPr>
              <a:t>Peter will buy a new car, if he gets his raise.</a:t>
            </a:r>
            <a:endParaRPr b="0" lang="en-US" sz="26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Complete these statements with personal information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1. If I have money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2. If I have time tonight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3. If I get good grades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4. If I feel like, 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5. If my parents let me, </a:t>
            </a: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will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do if…..?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are you going to do if…?</a:t>
            </a:r>
            <a:endParaRPr b="0" lang="en-US" sz="3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3628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95d1d"/>
                </a:solidFill>
                <a:latin typeface="Book Antiqua"/>
              </a:rPr>
              <a:t>Second Conditional</a:t>
            </a: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Often called the "unreal" conditional because it is used for unreal - impossible or improbable –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situations. This conditional provides an imaginary result for a given situation. </a:t>
            </a:r>
            <a:br>
              <a:rPr sz="2600"/>
            </a:br>
            <a:br>
              <a:rPr sz="49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clause + Result claus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+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past + C ,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would/could  + V + C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I were you, I would ask for help. </a:t>
            </a: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she didn’t speak English, she wouldn’t get the job. </a:t>
            </a:r>
            <a:endParaRPr b="0" lang="en-US" sz="26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Complete these statements with personal information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1. If I won the lottery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2. If I were a superhero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3. If my parents were more understanding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4. If I could travel anywhere in the world, 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5. If I had time, </a:t>
            </a: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would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do if…..?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could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do if…?</a:t>
            </a:r>
            <a:endParaRPr b="0" lang="en-US" sz="3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404280"/>
            <a:ext cx="7756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ird conditional </a:t>
            </a:r>
            <a:br>
              <a:rPr sz="5400"/>
            </a:br>
            <a:r>
              <a:rPr b="0" lang="en-US" sz="3600" spc="-1" strike="noStrike">
                <a:solidFill>
                  <a:srgbClr val="895d1d"/>
                </a:solidFill>
                <a:latin typeface="Book Antiqua"/>
              </a:rPr>
              <a:t>An imaginary situation in the past</a:t>
            </a:r>
            <a:endParaRPr b="0" lang="en-US" sz="36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2 CuadroTexto"/>
          <p:cNvSpPr/>
          <p:nvPr/>
        </p:nvSpPr>
        <p:spPr>
          <a:xfrm>
            <a:off x="900000" y="2276640"/>
            <a:ext cx="763272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clause + Result claus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If +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past perfect + C , </a:t>
            </a:r>
            <a:r>
              <a:rPr b="0" lang="en-US" sz="2600" spc="-1" strike="noStrike">
                <a:solidFill>
                  <a:srgbClr val="895d1d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895d1d"/>
                </a:solidFill>
                <a:latin typeface="Book Antiqua"/>
              </a:rPr>
              <a:t> + would/could  + have + V past part + C</a:t>
            </a: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Last week Agnes celebrated her birthday but I could not go to the pub with her because I was broke. So I say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5d1d"/>
                </a:solidFill>
                <a:latin typeface="Book Antiqua"/>
              </a:rPr>
              <a:t>If I had had enough money, I would have gone out with her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Complete these statements with personal information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1. If I hadn’t been accepted here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2. If I had studied harder last term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3. If I had had time last weekend,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4. If I had had a better ____ teacher, 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5. If I hadn’t met _____, </a:t>
            </a:r>
            <a:br>
              <a:rPr sz="3000"/>
            </a:b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Exchange information with a partner.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would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 you have done if…..?</a:t>
            </a:r>
            <a:br>
              <a:rPr sz="3000"/>
            </a:b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What  </a:t>
            </a:r>
            <a:r>
              <a:rPr b="1" i="1" lang="es-MX" sz="3000" spc="-1" strike="noStrike">
                <a:solidFill>
                  <a:srgbClr val="895d1d"/>
                </a:solidFill>
                <a:latin typeface="Book Antiqua"/>
              </a:rPr>
              <a:t>could </a:t>
            </a:r>
            <a:r>
              <a:rPr b="0" lang="es-MX" sz="3000" spc="-1" strike="noStrike">
                <a:solidFill>
                  <a:srgbClr val="895d1d"/>
                </a:solidFill>
                <a:latin typeface="Book Antiqua"/>
              </a:rPr>
              <a:t>you have done if…?</a:t>
            </a:r>
            <a:endParaRPr b="0" lang="en-US" sz="3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21:56Z</dcterms:created>
  <dc:creator>Lidz</dc:creator>
  <dc:description/>
  <dc:language>en-US</dc:language>
  <cp:lastModifiedBy>Lidz</cp:lastModifiedBy>
  <dcterms:modified xsi:type="dcterms:W3CDTF">2012-08-09T20:41:07Z</dcterms:modified>
  <cp:revision>12</cp:revision>
  <dc:subject/>
  <dc:title>Conditional 0  Situations that are always true if something happens.   This use is similiar to, and can usually be replaced by, a time clause using 'when' (example: When I am late, my father takes me to school.)   If clause + Result clause  If +  + present + C ,  + present + C  If I am late, my father takes me to school. My parents don’t get angry if I fail a test.  You can also put the result clause first without using a comma between the clauses.</dc:title>
</cp:coreProperties>
</file>